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986F-11F0-42AA-BAD9-158216D2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0A98-6F6A-479A-889D-54108183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4156-37FF-476B-9504-B073CED9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82E-CACA-43AF-AF5C-3DC805E9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4408-6EE3-4C4E-A5A5-CE95E0BC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E7BA-631E-4DD6-A401-AE2E82DD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8D79-A105-4618-99FA-B4F3AC46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34DB-6380-4D21-BB30-60E16DD9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DC3-5B93-4674-B209-6EB1D6DC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60B-5E0B-4F47-922A-9E25E400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BCD-CBB0-4AAD-972F-440CC80C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8D6-C4A2-40E7-8FE9-CBF2AEE6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2BE7-B7D7-42B6-9AF0-0F48334C3C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N.A.L.C.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 National d’Apprentissage des Langues Or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22096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U.L.C.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lôme de fin de premier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e Chin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41148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diplôme est décerné à Mademoiselle Lydia Raped pour ses résultats aux examens de ju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257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plô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exam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EN00490_" descr=""/>
          <p:cNvPicPr/>
          <p:nvPr/>
        </p:nvPicPr>
        <p:blipFill>
          <a:blip r:embed="rId2"/>
          <a:stretch/>
        </p:blipFill>
        <p:spPr>
          <a:xfrm>
            <a:off x="7391520" y="1905120"/>
            <a:ext cx="175248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EN00490_" descr=""/>
          <p:cNvPicPr/>
          <p:nvPr/>
        </p:nvPicPr>
        <p:blipFill>
          <a:blip r:embed="rId3"/>
          <a:stretch/>
        </p:blipFill>
        <p:spPr>
          <a:xfrm>
            <a:off x="0" y="1981080"/>
            <a:ext cx="17049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9:10Z</dcterms:created>
  <dc:creator>Pavilion Notebook User</dc:creator>
  <dc:description/>
  <dc:language>en-US</dc:language>
  <cp:lastModifiedBy>austin powers</cp:lastModifiedBy>
  <dcterms:modified xsi:type="dcterms:W3CDTF">2002-05-27T22:05:31Z</dcterms:modified>
  <cp:revision>2</cp:revision>
  <dc:subject/>
  <dc:title>Présentation PowerPoint</dc:title>
</cp:coreProperties>
</file>